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A918-74F4-43F1-B474-B353B43FA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2DA0-6C0F-4A1B-8A08-6F7A54F8D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DDC7-B62A-4DA7-96C2-D6AFFBCEC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3338-827A-47C4-9E86-A0359B1B6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EEC3-53DD-437B-A223-C6E25B3F2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D93E-2905-4F49-8F6E-EA81030F5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5400-82FF-433E-A976-17F676C37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6B38-3E2E-44F3-ADBC-005476A28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2610-29BF-46C1-87F4-336022E95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04D1-937C-42C4-A334-8F6FFE19A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850D-425F-4828-A8CA-9DE672B7B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9B57-7FB4-4CBC-BE7F-599EB845A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F4B5D-C12A-4911-A1F5-84800FC33A8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rostokąt 7"/>
          <p:cNvSpPr/>
          <p:nvPr/>
        </p:nvSpPr>
        <p:spPr>
          <a:xfrm>
            <a:off x="0" y="500040"/>
            <a:ext cx="9144000" cy="785880"/>
          </a:xfrm>
          <a:prstGeom prst="rect">
            <a:avLst/>
          </a:prstGeom>
          <a:solidFill>
            <a:srgbClr val="ffff99"/>
          </a:solidFill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499680"/>
            <a:ext cx="87868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Century Gothic"/>
              </a:rPr>
              <a:t>Ułamki łańcuchow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Object 3"/>
              <p:cNvSpPr txBox="1"/>
              <p:nvPr/>
            </p:nvSpPr>
            <p:spPr>
              <a:xfrm>
                <a:off x="714240" y="2286000"/>
                <a:ext cx="2981520" cy="281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" name="pole tekstowe 6"/>
          <p:cNvSpPr/>
          <p:nvPr/>
        </p:nvSpPr>
        <p:spPr>
          <a:xfrm>
            <a:off x="4000680" y="1714680"/>
            <a:ext cx="4857480" cy="4300200"/>
          </a:xfrm>
          <a:prstGeom prst="rect">
            <a:avLst/>
          </a:prstGeom>
          <a:solidFill>
            <a:srgbClr val="e5ffe5"/>
          </a:solidFill>
          <a:ln w="507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Gothic"/>
              </a:rPr>
              <a:t>To jest przykład ułamka łańcuchoweg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Gothic"/>
              </a:rPr>
              <a:t>W jego zapisie występują tylko ułamki o liczniku 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Gothic"/>
              </a:rPr>
              <a:t>Czy wiesz, że każdą liczbę można zapisać za pomocą takiego ułamka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2357280" y="1415520"/>
            <a:ext cx="4500720" cy="1919160"/>
          </a:xfrm>
          <a:prstGeom prst="rect">
            <a:avLst/>
          </a:prstGeom>
          <a:solidFill>
            <a:srgbClr val="e5ffe5"/>
          </a:solidFill>
          <a:ln w="381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entury Gothic"/>
                <a:ea typeface="Calibri"/>
              </a:rPr>
              <a:t>Aby dowiedzieć się jaką liczbę przedstawia ułamek łańcuchowy wystarczy znać dodawanie ułamków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entury Gothic"/>
                <a:ea typeface="Calibri"/>
              </a:rPr>
              <a:t>i pojęcie odwrotności liczby.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entury Gothic"/>
                <a:ea typeface="Calibri"/>
              </a:rPr>
              <a:t>Oto przykła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Object 3"/>
              <p:cNvSpPr txBox="1"/>
              <p:nvPr/>
            </p:nvSpPr>
            <p:spPr>
              <a:xfrm>
                <a:off x="714240" y="3500280"/>
                <a:ext cx="7786800" cy="154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9" name="Prostokąt 8"/>
          <p:cNvSpPr/>
          <p:nvPr/>
        </p:nvSpPr>
        <p:spPr>
          <a:xfrm>
            <a:off x="0" y="500040"/>
            <a:ext cx="9144000" cy="785880"/>
          </a:xfrm>
          <a:prstGeom prst="rect">
            <a:avLst/>
          </a:prstGeom>
          <a:solidFill>
            <a:srgbClr val="ffff99"/>
          </a:solidFill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ytuł 1"/>
          <p:cNvSpPr/>
          <p:nvPr/>
        </p:nvSpPr>
        <p:spPr>
          <a:xfrm>
            <a:off x="142920" y="500040"/>
            <a:ext cx="87868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Century Gothic"/>
              </a:rPr>
              <a:t>Ułamki łańcuchow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5"/>
              <p:cNvSpPr txBox="1"/>
              <p:nvPr/>
            </p:nvSpPr>
            <p:spPr>
              <a:xfrm>
                <a:off x="1785960" y="5357880"/>
                <a:ext cx="165240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3</m:t>
                                </m:r>
                              </m:den>
                            </m:f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7"/>
              <p:cNvSpPr txBox="1"/>
              <p:nvPr/>
            </p:nvSpPr>
            <p:spPr>
              <a:xfrm>
                <a:off x="5715000" y="5357880"/>
                <a:ext cx="157176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5</m:t>
                                    </m:r>
                                  </m:den>
                                </m:f>
                              </m:den>
                            </m:f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" name="Prostokąt 14"/>
          <p:cNvSpPr/>
          <p:nvPr/>
        </p:nvSpPr>
        <p:spPr>
          <a:xfrm>
            <a:off x="1143000" y="5286240"/>
            <a:ext cx="428760" cy="357480"/>
          </a:xfrm>
          <a:prstGeom prst="rect">
            <a:avLst/>
          </a:prstGeom>
          <a:solidFill>
            <a:srgbClr val="ffff99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rostokąt 15"/>
          <p:cNvSpPr/>
          <p:nvPr/>
        </p:nvSpPr>
        <p:spPr>
          <a:xfrm>
            <a:off x="5072040" y="5286240"/>
            <a:ext cx="428760" cy="357480"/>
          </a:xfrm>
          <a:prstGeom prst="rect">
            <a:avLst/>
          </a:prstGeom>
          <a:solidFill>
            <a:srgbClr val="ffff99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ole tekstowe 16"/>
          <p:cNvSpPr/>
          <p:nvPr/>
        </p:nvSpPr>
        <p:spPr>
          <a:xfrm>
            <a:off x="1214280" y="5286240"/>
            <a:ext cx="5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</a:rPr>
              <a:t>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ole tekstowe 17"/>
          <p:cNvSpPr/>
          <p:nvPr/>
        </p:nvSpPr>
        <p:spPr>
          <a:xfrm>
            <a:off x="5143680" y="528624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</a:rPr>
              <a:t>b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4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4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4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4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4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4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4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4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rostokąt 3"/>
          <p:cNvSpPr/>
          <p:nvPr/>
        </p:nvSpPr>
        <p:spPr>
          <a:xfrm>
            <a:off x="0" y="500040"/>
            <a:ext cx="9144000" cy="785880"/>
          </a:xfrm>
          <a:prstGeom prst="rect">
            <a:avLst/>
          </a:prstGeom>
          <a:solidFill>
            <a:srgbClr val="ffff99"/>
          </a:solidFill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ytuł 1"/>
          <p:cNvSpPr/>
          <p:nvPr/>
        </p:nvSpPr>
        <p:spPr>
          <a:xfrm>
            <a:off x="142920" y="500040"/>
            <a:ext cx="87868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Century Gothic"/>
              </a:rPr>
              <a:t>Ułamki łańcuchow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2357280" y="1434240"/>
            <a:ext cx="4500720" cy="1189080"/>
          </a:xfrm>
          <a:prstGeom prst="rect">
            <a:avLst/>
          </a:prstGeom>
          <a:solidFill>
            <a:srgbClr val="e5ffe5"/>
          </a:solidFill>
          <a:ln w="381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Każdą liczbę można zapisać w postaci ułamka łańcuchoweg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Przykła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1"/>
              <p:cNvSpPr txBox="1"/>
              <p:nvPr/>
            </p:nvSpPr>
            <p:spPr>
              <a:xfrm>
                <a:off x="214200" y="2786040"/>
                <a:ext cx="8690040" cy="13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" name="Rectangle 2"/>
          <p:cNvSpPr/>
          <p:nvPr/>
        </p:nvSpPr>
        <p:spPr>
          <a:xfrm>
            <a:off x="1857240" y="4287600"/>
            <a:ext cx="5643720" cy="459000"/>
          </a:xfrm>
          <a:prstGeom prst="rect">
            <a:avLst/>
          </a:prstGeom>
          <a:solidFill>
            <a:srgbClr val="e5ffe5"/>
          </a:solidFill>
          <a:ln w="381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entury Gothic"/>
              </a:rPr>
              <a:t>Każdą z liczb zapisz w postaci ułamka łańcuchowego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rostokąt 9"/>
          <p:cNvSpPr/>
          <p:nvPr/>
        </p:nvSpPr>
        <p:spPr>
          <a:xfrm>
            <a:off x="857160" y="5072040"/>
            <a:ext cx="428760" cy="357120"/>
          </a:xfrm>
          <a:prstGeom prst="rect">
            <a:avLst/>
          </a:prstGeom>
          <a:solidFill>
            <a:srgbClr val="ffff99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ole tekstowe 10"/>
          <p:cNvSpPr/>
          <p:nvPr/>
        </p:nvSpPr>
        <p:spPr>
          <a:xfrm>
            <a:off x="928800" y="507204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</a:rPr>
              <a:t>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rostokąt 11"/>
          <p:cNvSpPr/>
          <p:nvPr/>
        </p:nvSpPr>
        <p:spPr>
          <a:xfrm>
            <a:off x="3714840" y="5072040"/>
            <a:ext cx="428400" cy="357120"/>
          </a:xfrm>
          <a:prstGeom prst="rect">
            <a:avLst/>
          </a:prstGeom>
          <a:solidFill>
            <a:srgbClr val="ffff99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ole tekstowe 12"/>
          <p:cNvSpPr/>
          <p:nvPr/>
        </p:nvSpPr>
        <p:spPr>
          <a:xfrm>
            <a:off x="3786120" y="507204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</a:rPr>
              <a:t>b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rostokąt 13"/>
          <p:cNvSpPr/>
          <p:nvPr/>
        </p:nvSpPr>
        <p:spPr>
          <a:xfrm>
            <a:off x="6572160" y="5072040"/>
            <a:ext cx="428760" cy="357120"/>
          </a:xfrm>
          <a:prstGeom prst="rect">
            <a:avLst/>
          </a:prstGeom>
          <a:solidFill>
            <a:srgbClr val="ffff99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ole tekstowe 14"/>
          <p:cNvSpPr/>
          <p:nvPr/>
        </p:nvSpPr>
        <p:spPr>
          <a:xfrm>
            <a:off x="6643800" y="507204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</a:rPr>
              <a:t>c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3"/>
              <p:cNvSpPr txBox="1"/>
              <p:nvPr/>
            </p:nvSpPr>
            <p:spPr>
              <a:xfrm>
                <a:off x="1571760" y="5072040"/>
                <a:ext cx="39996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5"/>
              <p:cNvSpPr txBox="1"/>
              <p:nvPr/>
            </p:nvSpPr>
            <p:spPr>
              <a:xfrm>
                <a:off x="4357800" y="5030640"/>
                <a:ext cx="57132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7"/>
              <p:cNvSpPr txBox="1"/>
              <p:nvPr/>
            </p:nvSpPr>
            <p:spPr>
              <a:xfrm>
                <a:off x="7215120" y="5000760"/>
                <a:ext cx="51768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20:31:54Z</dcterms:created>
  <dc:creator>Judyta</dc:creator>
  <dc:description/>
  <dc:language>en-US</dc:language>
  <cp:lastModifiedBy>Rycho Rych</cp:lastModifiedBy>
  <dcterms:modified xsi:type="dcterms:W3CDTF">2013-08-28T22:34:59Z</dcterms:modified>
  <cp:revision>6</cp:revision>
  <dc:subject/>
  <dc:title>Ułamki łańcuchowe</dc:title>
</cp:coreProperties>
</file>